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F3F0-1104-45CD-A1EA-47105910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094D-8CD8-42DF-A783-FCD8C65E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6B2D-F948-4FC1-9D30-10A3F2134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20E6-C568-4293-9162-89ECCF42D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5F60-E3A1-4923-8ECA-44A56120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F27E-EE36-4125-89DE-37CC2BB5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66A2-6810-4E25-B9DC-BEF456F0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7437-C761-4CE8-B1BC-96AA03B2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65F4-2AA2-4942-8D3A-81D736AC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EB66-65E1-43B6-AF52-8D7FEEA8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EB08-C628-4794-A11E-16841A22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0327-E898-437C-82AB-53D46B32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EC1D-2996-48ED-83D6-D917BD9D1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Motorola_DynaTAC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hyperlink" Target="http://www.pfeg.org/" TargetMode="External"/><Relationship Id="rId5" Type="http://schemas.openxmlformats.org/officeDocument/2006/relationships/hyperlink" Target="http://www.pfeg.org/" TargetMode="External"/><Relationship Id="rId6" Type="http://schemas.openxmlformats.org/officeDocument/2006/relationships/hyperlink" Target="http://www.pfeg.org/" TargetMode="Externa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76360" y="2276640"/>
            <a:ext cx="3024360" cy="3816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68360" y="620640"/>
            <a:ext cx="8351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mobile phone generation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131640" y="1773360"/>
            <a:ext cx="54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wo-way radios for professional neces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1940s Motorola invents the walkie-talk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t first analogue transmission was used and “mobiles” were permanently installed in veh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1983 Motorola invents the first 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"transportable"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bile phone (</a:t>
            </a:r>
            <a:r>
              <a:rPr b="0" lang="en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otorola_Dyna 8000X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79280" y="2133720"/>
            <a:ext cx="2624400" cy="3600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11280" y="404640"/>
            <a:ext cx="7416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birth of the mobile phone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835280" y="260280"/>
            <a:ext cx="5327640" cy="11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acts and Figure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843280" y="2997360"/>
            <a:ext cx="58435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5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UK children own a mobile phone by the time they are 8years ol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5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kids aged 7 to 15 own at least one mobile ph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5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all adults in the United Kingdom owned or used a mobile ph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0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people between the ages of 15 and 34 owned or used a mobile pho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1557360"/>
            <a:ext cx="2479680" cy="3384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987640" y="162864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here was a survey by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ersonal Finance Education Group (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feg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2008 which sa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50920" y="404640"/>
            <a:ext cx="590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obile and pregnancy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95280" y="2665440"/>
            <a:ext cx="47530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thers who used their mobile phone while pregnant are 54%more likely to report their children had behavioural problem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diation from mobile phones can affect levels of melatonin, a sleep- controlling hormone that mothers pass to unborn babies through the placen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thers who were frequently on the phone through pregnancy might continue the pattern after birth, spending less time with their babies.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79280" y="1628640"/>
            <a:ext cx="3533760" cy="4753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284720" y="1773360"/>
            <a:ext cx="44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95640" y="1700280"/>
            <a:ext cx="51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he stud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vered more than 13,000 pregnant women.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732720" y="0"/>
            <a:ext cx="2195280" cy="1628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156200" y="5938920"/>
            <a:ext cx="300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4360" y="189000"/>
            <a:ext cx="7704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 case study: child addictio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067280" y="1844640"/>
            <a:ext cx="507672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time ago, it wasn't like we needed to co-ordinate our social move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ssian studies compared the excessive use of mobile phones to alcohol and tobacco addi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3933360"/>
            <a:ext cx="65880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mental-health clinic is currently treating two Spanish children, aged 12 and 13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d their problem from parents and loved ones and obtained money without explaining that it was for phone cards. They can have problems at school to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irector has recommended that parents should not allow children to have mobile phones until they're 1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886440" y="4076640"/>
            <a:ext cx="2257560" cy="2544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0" y="1341360"/>
            <a:ext cx="380988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4360" y="189000"/>
            <a:ext cx="77040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 case study: sleeping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78920" y="4292640"/>
            <a:ext cx="317844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ong the 13 year olds,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15%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porte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ing woken up several times a w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ong the 16 years old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re woken up several times a week.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065480" y="1341360"/>
            <a:ext cx="5078520" cy="3286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1268280"/>
            <a:ext cx="35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197000"/>
            <a:ext cx="34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y teenagers leave their mobile phone on while they are aslee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276640"/>
            <a:ext cx="36352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out 2500 children in Flanders (aged 13 years and 16 years respectively) were asked how often they were awoken at night by incoming text messages on their mobile pho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907920"/>
            <a:ext cx="529272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ildren who use mobile phones risk suffering memory loss, sleeping disorders and heada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"excessive texters" felt more tired during the day and drank more caffeine to help them stay awak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young people also felt a "pressure" to be at the end of their phones "around the clock", the stress of which led them to take up smoking or drin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932440" y="260280"/>
            <a:ext cx="3211560" cy="2952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0920" y="0"/>
            <a:ext cx="47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udy in the medical journal The Lancet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3716280"/>
            <a:ext cx="52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earchers at Sahlgren's Academy in Gothenburg, Sweden sa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4920" y="5013360"/>
            <a:ext cx="824724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enager who regulary used the mobile phone found it more difficult to fall asleep than the other but they also suffered from more disruptive sleep pattern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tting a good night's sleep was extremely important for young people, doctors recommend that adolescents get nine hour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sleep a n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050920" y="260280"/>
            <a:ext cx="51850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essages text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"/>
          <p:cNvSpPr/>
          <p:nvPr/>
        </p:nvSpPr>
        <p:spPr>
          <a:xfrm>
            <a:off x="826920" y="1268280"/>
            <a:ext cx="785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other risk can be that teenagers can use the language used in text message in writing a school te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42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0" y="2205000"/>
          <a:ext cx="9144000" cy="40240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46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talia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ngl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talian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nglish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i vediamo doma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e you tomorr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i ved do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 u tom / 2mor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i vediamo più tard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e you la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i ved + tard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 u l8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ci e abbrac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isses and h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ci e abbrac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XO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ieni a casa mia stasera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e you coming to mine tonigh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ieni a casa mia stas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u coming 2 m9 2night/ 2nit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me stai?stai bene? Tutto ok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ow are you? are you well? Is it ok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m stai? stai bn? Tt ok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ru? Ru ok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’erano tut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veryone was the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’ erano 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1 was the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uoi venire al parco con me stamattina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o you want to come to park with me this morning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ieni al parco cn me stamattina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o u W 2 come 2 park w me th am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1:41:19Z</dcterms:created>
  <dc:creator>Di Giulio</dc:creator>
  <dc:description/>
  <dc:language>en-US</dc:language>
  <cp:lastModifiedBy>Di Giulio</cp:lastModifiedBy>
  <dcterms:modified xsi:type="dcterms:W3CDTF">2009-02-26T16:14:30Z</dcterms:modified>
  <cp:revision>25</cp:revision>
  <dc:subject/>
  <dc:title>Diapositiva 1</dc:title>
</cp:coreProperties>
</file>